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2C6-53D7-4D4C-8491-B5279461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5A3-F5ED-40FD-A6C3-F7DA9085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5B3-A8F8-4D22-9476-CF7FA450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0B2-FF99-496D-8CD3-7C69EB60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38C-D521-4F8D-95B7-61BB842C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2BC-FB2F-4903-A886-A6FC6AA0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4EB-3806-4746-90A4-C404D1EE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2E6-3089-4789-A91A-80132AA5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91E-7C76-4F8B-8518-D17C5F84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940-04F2-4752-A827-49EF039B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DEB-9FCA-4E34-9DD5-7826101C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F5A-6F08-432B-8578-C13DB1B6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8B23-A1B0-457F-B027-584C1772E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Karri Vaugh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reek city-sta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://t1.gstatic.com/images?q=tbn:ANd9GcTMuzDGDziWFtL0CEXMNcNlXm8bw69qkAOX4hkIkCKKKuXAOt8oVi_YTn36DQ"/>
          <p:cNvPicPr/>
          <p:nvPr/>
        </p:nvPicPr>
        <p:blipFill>
          <a:blip r:embed="rId1"/>
          <a:stretch/>
        </p:blipFill>
        <p:spPr>
          <a:xfrm>
            <a:off x="533520" y="2209680"/>
            <a:ext cx="7619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tudy of wisdom and the right way to li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63360" y="-419040"/>
            <a:ext cx="1257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63360" y="-419040"/>
            <a:ext cx="1257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ttp://t2.gstatic.com/images?q=tbn:ANd9GcS5zl6vRmfhkmtf-m-_o9ZNJw7AQk-LycUkSHq7gIYO8hvQtNIuQQ"/>
          <p:cNvPicPr/>
          <p:nvPr/>
        </p:nvPicPr>
        <p:blipFill>
          <a:blip r:embed="rId1"/>
          <a:stretch/>
        </p:blipFill>
        <p:spPr>
          <a:xfrm>
            <a:off x="533520" y="2438280"/>
            <a:ext cx="7315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rea of land nearly surrounded by wa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t0.gstatic.com/images?q=tbn:ANd9GcTlhzGssrsqN0MA-MoOdow1hCAhl8cGiDQQ37IYoeTevyDQcu_apQ"/>
          <p:cNvPicPr/>
          <p:nvPr/>
        </p:nvPicPr>
        <p:blipFill>
          <a:blip r:embed="rId1"/>
          <a:stretch/>
        </p:blipFill>
        <p:spPr>
          <a:xfrm>
            <a:off x="914400" y="2514600"/>
            <a:ext cx="8001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ar between Athens and Sparta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ttp://t3.gstatic.com/images?q=tbn:ANd9GcSibAbnNXDMZ9OhTksf6iitDS_5xY4BEvSuBjoUObRIHUgO4lXRtg"/>
          <p:cNvPicPr/>
          <p:nvPr/>
        </p:nvPicPr>
        <p:blipFill>
          <a:blip r:embed="rId1"/>
          <a:stretch/>
        </p:blipFill>
        <p:spPr>
          <a:xfrm>
            <a:off x="1295280" y="2895480"/>
            <a:ext cx="66294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http://t3.gstatic.com/images?q=tbn:ANd9GcRBU0KbgNTMGeynISfTnTF54SOZnVwWF0BhSmplVc2QzI8YBBDj9w"/>
          <p:cNvPicPr/>
          <p:nvPr/>
        </p:nvPicPr>
        <p:blipFill>
          <a:blip r:embed="rId1"/>
          <a:stretch/>
        </p:blipFill>
        <p:spPr>
          <a:xfrm>
            <a:off x="2209680" y="3352680"/>
            <a:ext cx="495324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heltered place along a coastli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t1.gstatic.com/images?q=tbn:ANd9GcRhSbQOyLwCVOsVMEWhsvGr_8Q_ILzpI4IpcQzalLHkKuye1gnc"/>
          <p:cNvPicPr/>
          <p:nvPr/>
        </p:nvPicPr>
        <p:blipFill>
          <a:blip r:embed="rId1"/>
          <a:stretch/>
        </p:blipFill>
        <p:spPr>
          <a:xfrm>
            <a:off x="1295280" y="2590920"/>
            <a:ext cx="6096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1.gstatic.com/images?q=tbn:ANd9GcR4kQQ58XZFpcVZnaNTnUdWuuCGtApfXec-ybGrvi5Cq30UZEgzCQ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t3.gstatic.com/images?q=tbn:ANd9GcRTAB9bofA4KGPTL8drs1uVh57mBgWVzs25XxLgm7himqTfxyHm"/>
          <p:cNvPicPr/>
          <p:nvPr/>
        </p:nvPicPr>
        <p:blipFill>
          <a:blip r:embed="rId1"/>
          <a:stretch/>
        </p:blipFill>
        <p:spPr>
          <a:xfrm>
            <a:off x="457200" y="1981080"/>
            <a:ext cx="80773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1.gstatic.com/images?q=tbn:ANd9GcRAql_D7GSSFXfVjtoPeMQVNg7f76VFzdzSSAqOtuOsOoE_4weo4g"/>
          <p:cNvPicPr/>
          <p:nvPr/>
        </p:nvPicPr>
        <p:blipFill>
          <a:blip r:embed="rId1"/>
          <a:stretch/>
        </p:blipFill>
        <p:spPr>
          <a:xfrm>
            <a:off x="762120" y="2928960"/>
            <a:ext cx="70866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t3.gstatic.com/images?q=tbn:ANd9GcQwwBDPGW91wlS580J9fjpQGlAAWXtZua_D9jCBiY2MN5POn6ws"/>
          <p:cNvPicPr/>
          <p:nvPr/>
        </p:nvPicPr>
        <p:blipFill>
          <a:blip r:embed="rId1"/>
          <a:stretch/>
        </p:blipFill>
        <p:spPr>
          <a:xfrm>
            <a:off x="1219320" y="2819520"/>
            <a:ext cx="6476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t2.gstatic.com/images?q=tbn:ANd9GcTOOD1cu_7JTu4N-PxhaaY8pjQaWgJDWBGKPSKOktOAM7YXAZ6UvA"/>
          <p:cNvPicPr/>
          <p:nvPr/>
        </p:nvPicPr>
        <p:blipFill>
          <a:blip r:embed="rId1"/>
          <a:stretch/>
        </p:blipFill>
        <p:spPr>
          <a:xfrm>
            <a:off x="533520" y="2895480"/>
            <a:ext cx="77724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t1.gstatic.com/images?q=tbn:ANd9GcTP8qmkxS1ITrzSmkROXXmGbwf6lN_gi_Bj0YNNo7vsK-HobLwh"/>
          <p:cNvPicPr/>
          <p:nvPr/>
        </p:nvPicPr>
        <p:blipFill>
          <a:blip r:embed="rId1"/>
          <a:stretch/>
        </p:blipFill>
        <p:spPr>
          <a:xfrm>
            <a:off x="1523880" y="2895480"/>
            <a:ext cx="6782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t3.gstatic.com/images?q=tbn:ANd9GcRVwGYFooOi2bMHRC3243gBQz2wwAQtMSsL_r09-YP9ane3oAKp"/>
          <p:cNvPicPr/>
          <p:nvPr/>
        </p:nvPicPr>
        <p:blipFill>
          <a:blip r:embed="rId1"/>
          <a:stretch/>
        </p:blipFill>
        <p:spPr>
          <a:xfrm>
            <a:off x="304920" y="2743200"/>
            <a:ext cx="8458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vernment headed by one rul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t0.gstatic.com/images?q=tbn:ANd9GcQ69RVR0z2ktf-xNDLsEGNAOKIdiiGD5nB14TEBkhORZH84Z42KwA"/>
          <p:cNvPicPr/>
          <p:nvPr/>
        </p:nvPicPr>
        <p:blipFill>
          <a:blip r:embed="rId1"/>
          <a:stretch/>
        </p:blipFill>
        <p:spPr>
          <a:xfrm>
            <a:off x="1066680" y="1981080"/>
            <a:ext cx="63248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8T15:51:11Z</dcterms:modified>
  <cp:revision>97</cp:revision>
  <dc:subject/>
  <dc:title>Ancient Greece</dc:title>
</cp:coreProperties>
</file>